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4353-4CCE-451B-A50B-AAF133F1C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4FB7-DFF8-43CF-AE56-D4020EE86F9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4DC9-3308-4CB2-8D89-A0D2A6D1429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BB42-80E8-4EB2-AEB7-5C8E1E0A251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B54C-1169-4DB2-998B-F5D25F50E9D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F9E1-CBA5-40D0-A097-6703BC08A38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497B-AA36-4B3E-B10A-0129F8BDF5B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0E0E-B2DB-4017-89A6-CAFCF6BBA36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0BDE-B4EE-4B21-8768-6A702731685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57F7-5316-45B5-9B15-5A3BF3F7175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B9C8-E4B0-40D3-A09C-35F78CCBC33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C895-B1AA-4391-BBAA-0D1F6ACFE16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CA7C-D87D-489E-8849-230CC143674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7E37-F097-4AD2-9092-460588EED31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1B49-F028-442C-92DB-76D1B9202C8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35C3-2E78-45B8-B267-E9CC6074FEE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371D-5401-4BC1-AB7C-C10FFE6DE4C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973A-45E1-4B88-AD9D-C80A7EC9160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DA76-74A9-4E8C-B996-7B9AA1A7560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237C-4367-4171-A021-5AB5F823BB2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3248-D8FB-40AF-9861-AA089AD250D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42FF-918B-4ADD-859F-9F561B18475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F43E-18B2-432A-B475-430E6E939BD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6D72-37DB-44CA-8C5E-BDBB466C566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6340-1DA3-49E2-8D13-E9C42296FFB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50E2-6453-4E5A-A881-C7F0AF9849D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103B-FD53-4FE4-B39F-2B2F29FE89F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7D0C-B9BE-4522-86A9-31D33DE6B78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EA39D-DBC2-48E4-9330-A256633B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E8F9C-45AD-4E62-9430-211960C7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11B9D-63B6-4425-A62E-49AD03C0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0E455-7B16-4847-A393-CD784438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9E8FF-5EF0-41A8-A031-02FE1AB9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2B6BF-E05D-4592-AA08-0464E213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1FD8D-91C6-4D7B-9282-6F9C4697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9DE73-8545-46D6-9A1C-0E9B6BBC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6263E-F408-4E79-B75C-F5BEEE46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B5ABC-6A18-41F2-8455-B2EDBB92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B3178-1BA9-4369-820B-3B00B476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62FF8-26FE-4D36-97E1-078F72BB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172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3244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6019920"/>
            <a:ext cx="1752840" cy="742320"/>
            <a:chOff x="152280" y="6019920"/>
            <a:chExt cx="1752840" cy="742320"/>
          </a:xfrm>
        </p:grpSpPr>
        <p:sp>
          <p:nvSpPr>
            <p:cNvPr id="6" name="Freeform 8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6400" y="6019920"/>
              <a:ext cx="43920" cy="55080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280" y="6731280"/>
              <a:ext cx="9288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54440" y="6734880"/>
              <a:ext cx="8784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920" y="624888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21560" y="62920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4864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676080" y="6292080"/>
              <a:ext cx="78120" cy="11736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4200" y="629208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863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060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1067760" y="6248880"/>
              <a:ext cx="38880" cy="16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1070280" y="6251760"/>
              <a:ext cx="3420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4497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1451880" y="6294960"/>
              <a:ext cx="342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1451880" y="6251760"/>
              <a:ext cx="3420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1821960" y="631692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392040" y="650880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73120" y="644076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676080" y="64778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3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930600" y="644076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1219680" y="650880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1312560" y="6440760"/>
              <a:ext cx="3888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1315080" y="6443640"/>
              <a:ext cx="34200" cy="1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1395720" y="650880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1523160" y="650880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4" name="Rectangle 66"/>
          <p:cNvSpPr/>
          <p:nvPr/>
        </p:nvSpPr>
        <p:spPr>
          <a:xfrm>
            <a:off x="7034400" y="632448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September, 2004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5" name="Picture 6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8" descr="cis2 final"/>
          <p:cNvPicPr/>
          <p:nvPr/>
        </p:nvPicPr>
        <p:blipFill>
          <a:blip r:embed="rId3"/>
          <a:stretch/>
        </p:blipFill>
        <p:spPr>
          <a:xfrm>
            <a:off x="6858000" y="152280"/>
            <a:ext cx="20034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738E-09DB-4E84-AEF6-58818F4AE42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8380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IS/2 - IFC Harmonization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447920" y="3048120"/>
            <a:ext cx="60958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merican Institute of Steel Constru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ational Institute of Standards and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orgia Institute of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5" descr="D:\analysis2.EMF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38811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840600" y="5486400"/>
            <a:ext cx="61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reactions and revisions are merged - DM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19320" y="5257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l the structural engr. always develop a separate structur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Picture 5" descr="D:\analysis3.EMF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3467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3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9528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95280" y="1905120"/>
            <a:ext cx="6629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s set of exchanges address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rchitectural coordination with structural engine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ructural engineer deriving the basic layou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eel fabricator in a design-build business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95280" y="1600200"/>
            <a:ext cx="66294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Analysis Applications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M, STRUDL, ROBOT, SAP/ETABS, STAAD/Pro, RIS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, Frameworks+,3D+,R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226" name="Rectangle 5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7" name="Text Box 6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819520" y="3733920"/>
            <a:ext cx="20574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2" name="Picture 3" descr="D:\manufacturing1.EMF"/>
          <p:cNvPicPr/>
          <p:nvPr/>
        </p:nvPicPr>
        <p:blipFill>
          <a:blip r:embed="rId1"/>
          <a:stretch/>
        </p:blipFill>
        <p:spPr>
          <a:xfrm>
            <a:off x="762120" y="167328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143000" y="990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1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838080" y="57150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stinguish change from detail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657600" y="3809880"/>
            <a:ext cx="198108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7" name="Picture 3" descr="D:\manufacturing2.EMF"/>
          <p:cNvPicPr/>
          <p:nvPr/>
        </p:nvPicPr>
        <p:blipFill>
          <a:blip r:embed="rId1"/>
          <a:stretch/>
        </p:blipFill>
        <p:spPr>
          <a:xfrm>
            <a:off x="990720" y="1908000"/>
            <a:ext cx="7238880" cy="3905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2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362320" y="3962520"/>
            <a:ext cx="167616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1" name="Picture 3" descr="D:\manufacturing3EMF.EMF"/>
          <p:cNvPicPr/>
          <p:nvPr/>
        </p:nvPicPr>
        <p:blipFill>
          <a:blip r:embed="rId1"/>
          <a:stretch/>
        </p:blipFill>
        <p:spPr>
          <a:xfrm>
            <a:off x="609480" y="2043000"/>
            <a:ext cx="7696440" cy="3848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3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295280" y="22096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Fundamental Pass-off to the Fabricato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971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to fabricator is straightforwar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447920" y="3657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ing back updates is hard: pass back everything and let design application sel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43000" y="228600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3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255" name="Rectangle 5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57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0" name="Picture 3" descr="D:\Coordination1.EMF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38260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90720" y="2209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back everyth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66680" y="2895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king conflicts requires DMC &amp; incremental updat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219320" y="4114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066680" y="396252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4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272" name="Rectangle 5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8" name="Picture 4" descr="D:\statreport1.EMF"/>
          <p:cNvPicPr/>
          <p:nvPr/>
        </p:nvPicPr>
        <p:blipFill>
          <a:blip r:embed="rId1"/>
          <a:stretch/>
        </p:blipFill>
        <p:spPr>
          <a:xfrm>
            <a:off x="304920" y="2514600"/>
            <a:ext cx="8315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914400" y="22096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one else can do th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ires DMC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219320" y="4876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ll also be packaged as .dll and made freely available to application develop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523880" y="685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1981080" y="228600"/>
            <a:ext cx="457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Mechan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533520" y="1676520"/>
            <a:ext cx="8001000" cy="3031920"/>
            <a:chOff x="533520" y="1676520"/>
            <a:chExt cx="8001000" cy="3031920"/>
          </a:xfrm>
        </p:grpSpPr>
        <p:pic>
          <p:nvPicPr>
            <p:cNvPr id="287" name="Picture 3" descr="D:\translatormech.EMF"/>
            <p:cNvPicPr/>
            <p:nvPr/>
          </p:nvPicPr>
          <p:blipFill>
            <a:blip r:embed="rId1"/>
            <a:stretch/>
          </p:blipFill>
          <p:spPr>
            <a:xfrm>
              <a:off x="533520" y="1676520"/>
              <a:ext cx="8001000" cy="30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7"/>
            <p:cNvSpPr/>
            <p:nvPr/>
          </p:nvSpPr>
          <p:spPr>
            <a:xfrm>
              <a:off x="245268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579132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62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8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170" name="Rectangle 8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2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0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178" name="Rectangle 11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0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3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186" name="Rectangle 14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8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838080" y="19051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xamine in detail and assess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99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1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914400" y="1295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alysis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838080" y="5181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rchitectural information needed to define load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6" name="Picture 9" descr="D:\analysis1.EMF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30020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remental update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8:20:16Z</dcterms:created>
  <dc:creator>Chuck</dc:creator>
  <dc:description/>
  <dc:language>en-US</dc:language>
  <cp:lastModifiedBy>Robert Lipman</cp:lastModifiedBy>
  <dcterms:modified xsi:type="dcterms:W3CDTF">2012-02-17T21:50:04Z</dcterms:modified>
  <cp:revision>17</cp:revision>
  <dc:subject/>
  <dc:title>PowerPoint Presentation</dc:title>
</cp:coreProperties>
</file>